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gif" ContentType="image/gi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7DF0-F61F-43E2-86D8-726E108D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BA78-78F6-457F-A821-D17BF3C3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E4C-6D8F-429B-BA85-D1897EA4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E01-A252-4DD3-A5EB-11D84252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E41-A4C1-45C6-ACC7-F152F960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B73-98A6-42E0-868A-C588F8E7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475-4F5D-483D-8073-9184FE10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AB5-4A45-4B3C-8753-C4889A7C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A19-2823-40CA-A999-2B2C403A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DA4-E32E-4888-87C7-0584A5C2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4FC-CCFD-4D67-809D-0B9CCBC5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6A21-68D9-43CC-BE40-A025CD0B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F22C-E39E-44FA-A808-12EE4F34C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utsch 2 Kapitel 4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Geles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 Ich fur meine Gesundheit tu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Langstreckenlauf Jeden Tag fur mein Gesundheit. Es macht spa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icht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 es 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t mich f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31626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 Ich fur meine Gesundheit tu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esse viel Obst und Gem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jeden Tag weil Obst und Gem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gesund 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4213440" cy="2443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8880" y="289548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r in Amerika, ist ein Pizza ein Gem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32767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 Ich fur meine Gesundheit tu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schlafe genugend von 9 uhr zu 9 uhr weil mein bett ist zer bequem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I wish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4257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tust d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finde es nicht gut das du trinkst Alkohol, weil es sehr ungesund 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05320" y="3124080"/>
            <a:ext cx="2225520" cy="3198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971800" y="3048120"/>
            <a:ext cx="3505320" cy="3504960"/>
          </a:xfrm>
          <a:prstGeom prst="noSmoking">
            <a:avLst>
              <a:gd name="adj" fmla="val 5662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tust d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ist gut das du nicht raucht, denn du bist ges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81280" y="38098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581280" y="4038480"/>
            <a:ext cx="2210040" cy="2210040"/>
          </a:xfrm>
          <a:prstGeom prst="noSmoking">
            <a:avLst>
              <a:gd name="adj" fmla="val 7041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19920" y="35053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darfe ic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e mein Freunde besuc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28958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darfe ich nic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e nicht sterben, weil ich bin ehrfurchtig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ich bin ges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47242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7:27:07Z</dcterms:created>
  <dc:creator>CUSD220</dc:creator>
  <dc:description/>
  <dc:language>en-US</dc:language>
  <cp:lastModifiedBy>CUSD220</cp:lastModifiedBy>
  <dcterms:modified xsi:type="dcterms:W3CDTF">2012-02-24T17:40:19Z</dcterms:modified>
  <cp:revision>3</cp:revision>
  <dc:subject/>
  <dc:title>Deutsch 2 Kapitel 4 Project</dc:title>
</cp:coreProperties>
</file>